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74A-C7D9-4B58-A2E2-D65B956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D86-F74E-48B7-89A8-300C8D2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0C3-DE9D-4562-8406-28F1C791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5A6-3315-4579-B5A7-C821F4F3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8F8-37D6-4D1D-B34B-F8BAFB0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E73-4DA4-426C-97F5-D39F7B04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913-C7FF-4132-8688-7F086B4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90A-6C4A-4E60-9AEA-CD468C1F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427-0810-46F4-8422-B7E1012D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3B1-CADB-4204-8B49-E28DDE56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488-F9A3-49D6-933A-9E48C0B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A5F-B3C1-4470-9036-3E88E29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F31-7BC6-4578-B9F2-96130041E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9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esta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e with the correct form of SER or E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ingles _________ abur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éctor y Luisa _________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de Urugu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_ en Puerto R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fetería y el laboratorio ________ en el sót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rge _________una persona sinc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sa ____________ en Nueva Jers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contento 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590920" cy="25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30600" y="9360"/>
            <a:ext cx="216072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811520" cy="188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9880" y="4114800"/>
            <a:ext cx="1876680" cy="179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28600" y="36576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05720" y="3352680"/>
            <a:ext cx="199044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2895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ipe tien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 ti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048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__________ y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198108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s tiene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58071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ilon esta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79132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a 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571500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ardo 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jercicio 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Ejercicio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Ej. 17 p. 51 AS A MODEL, write a letter to ME in Spanish, TYPED &amp; DOUBLE SPACED. Tell m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you are?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-Where you ar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yourself (3 characteristics)             -How old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s your birthda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-Where do you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eople are in your family?            -Who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y like? (2 characteristic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live in a private house or apar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your house or apartment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like to do? (2 activiti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-Ask me 5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 IS WRITTEN IN A LETTER FORM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087640"/>
            <a:ext cx="8229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0:31:39Z</dcterms:created>
  <dc:creator>Helen Zumaeta</dc:creator>
  <dc:description/>
  <dc:language>en-US</dc:language>
  <cp:lastModifiedBy>Helen Zumaeta</cp:lastModifiedBy>
  <dcterms:modified xsi:type="dcterms:W3CDTF">2011-04-29T17:36:16Z</dcterms:modified>
  <cp:revision>4</cp:revision>
  <dc:subject/>
  <dc:title>Me llamo _________ Clase 7IM La fecha es el 29 de abril del 2011</dc:title>
</cp:coreProperties>
</file>